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61C91D-2227-493D-8B3C-52D9AF32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1C6698-C834-4E5B-8BBC-289491B0F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957B37-CFD2-4C98-BE97-A42161FC4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s must be ruled out before a diagnosis of osteomyelitis can be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most likely to be susceptible to osteomyel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infants and children, osteomyelitis can develop as a secondary infection from what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292E71-D975-4492-B933-4A9B8D04D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a of the body does gout typically a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etary modifications can help in treatment of g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kidney function related to g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9C8A2-3C9C-4F55-AA6F-9740A9D29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ry products have been shown to reduce frequency of gouty arthr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can be acute and severe with mild systemic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with pain medication is urgent with gouty arthr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E2B145-8238-4007-B632-7684B47BE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porosis classified as a metabolic bon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possible causes of osteopo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porosis called a “silent”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roups are most at risk and should have annual bone density t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4D1186-9062-4FFA-83AE-A9B68D7FD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ossible causes of osteomalac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osteomalacia and ric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of vitamin D to osteomalacia and ric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B2C7CC-CD33-4B89-B133-29AC0027B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causes of bun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rthrodesis and arthroplas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footwear play in treatment of bunions and rigid big to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3732D-95F0-4DBE-BEC8-03F857A35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unctionality of skeletal tissues. (Refer to Fig. 7-6, p. 2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njury to a tendon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fascia and bursa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cartilag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D5400-ECCA-45E7-88D3-DE28A1CD2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t types of fractures (Refer to Fig. 7-25 pp. 305, 3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technologies used in diagnosing fra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immobilization techniqu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50B087-D0A9-463C-BA43-0FD6B9C6E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differences between strains and sp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considered the more serious inju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ymptoms do strains and sprains have in comm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cute and chronic trau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it normally take for strains and sprains to he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79AA7B-77C3-4761-B726-D716F194A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causes of lord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cheuermann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robable cause of hunchback in older persons and post-menopausal wo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and gender group is most likely to develop scol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19BB1-378E-42DB-B946-397DB2ADC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art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ich parts of the body does osteoarthritis usually app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arthritis such a growing problem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dvertising for today’s prescription and OTC arthritis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B2315-D25B-4766-9958-B6E6284BD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as of the body can be affected by Lym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cautions can be taken to help prevent Lym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ethods of removing ti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seases can Lyme disease be mistaken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yme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 and physical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ick bites by wearing long cl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 clothes and body for ti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yelit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myelit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serious infection of bone that requires aggressive antibiotic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bacterial organisms, viruses, and 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zed by inflammation, swelling, redness, pain, localized heat, and tende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yel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antibiotic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take of proteins and vitamins A, B, and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of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obilization of affected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u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u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ronic disorder of uric acid metabolism that manifests an acute, episodic form of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or decreased excretion of 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s of uric acid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s of uric acid in synovial fluid in joints and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 to reduce pressure on affected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ice to inflamed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AIDs and corticostero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purine diet and frequent fluid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uricemic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por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po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characterized by loss of normal bone mass and density due to imbalance between breakdown of old bone tissue and manufacture of new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por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 until bone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taneous fractures and loss of height are the most common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take of calcium and vitamin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sphosphonate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at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alac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malac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isease characterized by a defective mineralization of the bones, causing them to become soft, flexible, and de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osteomalacia occurs in children, it affects the growing skeleton and is called ri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alac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essive stiff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der, painful b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D supp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vitamin D, calcium, and calcitonin to d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 to sun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llus Valgus &amp; Hallus Rigid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us Valgus (Bunio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ocalized area of enlargement of the inner portion of the metatarsophalangeal (MTP) joint at the base of the big 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eletal tissu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amen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ugh, dense, fibrous bands of connective tissue that hold bones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d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ong, tough cords of dense connective tissue that usually attach muscle to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mi-smooth, dense, supporting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llus Valg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bu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P joint becomes stiff, painful, and sw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ring shoes with more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lammatory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ctures (broken bon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d by stress on the bones resulting from a traumatic insult to the musculoskeletal system, severe muscle spasm, or bone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treatment of fractures depends on location, severity, type, and ca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fracture of long bone: reduction and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fracture: cleaning, debriding, reduction,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fixation (open red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Picture 8" descr="W0256-07-25a-l"/>
          <p:cNvPicPr/>
          <p:nvPr/>
        </p:nvPicPr>
        <p:blipFill>
          <a:blip r:embed="rId1"/>
          <a:stretch/>
        </p:blipFill>
        <p:spPr>
          <a:xfrm>
            <a:off x="3154320" y="1465200"/>
            <a:ext cx="28353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i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jured tendons, muscles or other tissues resulting from overuse, overstretching, or excessive forcible stretching of the tissue beyond its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ai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partial tears of a lig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 and rest of affected l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ation with elastic band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gesics and anti-inflammatory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atment of Strains and Sprai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exaggerated inward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ph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bnormal outward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oli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ateral (sideways)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jor Spinal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tilt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ord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s to strengthen muscles and lig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brace to stabilize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al fusion and temporary im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yph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to strengthen weak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b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of the verteb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oli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arthrit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teoar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reakdown and eventual loss of cartilage of one or more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diseases such as diabetes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ar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 formations on fi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eneration of spinal vertebrae and pelvic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ic testing to exclude other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inflammation, minimiz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yme Disease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me disea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nfectious bacteriological disease spread by deer tick 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d by the bacterium Borrelia burgdorf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acterized by red, itchy rash with a red circle center (“bull’s-eye” 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characterized by flu-like symptoms such as headache, fever, joint pain, and 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5-01-18T16:30:09Z</cp:lastPrinted>
  <dcterms:modified xsi:type="dcterms:W3CDTF">2011-06-14T20:16:31Z</dcterms:modified>
  <cp:revision>728</cp:revision>
  <dc:subject/>
  <dc:title>Management Techniques for the Health Unit Coordinator</dc:title>
</cp:coreProperties>
</file>